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B2A-9861-4F6D-B923-28786EDA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C6E-0D91-4B1E-8238-7CFA4740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CBC-227D-4D45-A2B9-94B91768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6D8E-47A1-4931-8036-0B455243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934F-F55B-4519-8709-05E15230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E34A-8CC5-41C7-848A-FFC52DAD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EB3-2E3F-4F8D-B78F-3B266198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314B-200F-4C5E-95EF-36D9BF89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9112-CE14-4AD6-8196-39EF7D35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2616-4DC4-422A-B4B0-10A2654F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92E9-13E0-4EC9-A0A2-B8DEB443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FF8-B3F0-469A-B630-344426E1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6D21-9E83-4E8F-A02B-E44A3194E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187280" y="1197000"/>
            <a:ext cx="7344000" cy="4453200"/>
            <a:chOff x="1187280" y="1197000"/>
            <a:chExt cx="7344000" cy="4453200"/>
          </a:xfrm>
        </p:grpSpPr>
        <p:sp>
          <p:nvSpPr>
            <p:cNvPr id="43" name=""/>
            <p:cNvSpPr/>
            <p:nvPr/>
          </p:nvSpPr>
          <p:spPr>
            <a:xfrm>
              <a:off x="1692360" y="1197000"/>
              <a:ext cx="5761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LIMITACIONES PA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EL DESARROLLO MINE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87280" y="3433680"/>
              <a:ext cx="71298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mic Sans MS"/>
                </a:rPr>
                <a:t>RICARDO BRIC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COMISIÓN ORGANIZADORA DE LA CONVENCIÓN MINE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19640" y="5373720"/>
              <a:ext cx="331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omic Sans MS"/>
                </a:rPr>
                <a:t>27 de Octubre del 2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526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9684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56497" t="2566" r="4597" b="87955"/>
          <a:stretch/>
        </p:blipFill>
        <p:spPr>
          <a:xfrm>
            <a:off x="6553080" y="3581280"/>
            <a:ext cx="1981440" cy="66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581280" y="3733920"/>
            <a:ext cx="2210040" cy="53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72200" y="5181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4893" t="8909" r="1340" b="10545"/>
          <a:stretch/>
        </p:blipFill>
        <p:spPr>
          <a:xfrm>
            <a:off x="2514600" y="2438280"/>
            <a:ext cx="434340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68360" y="29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Poder Legis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341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80000" y="27082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76720" y="2133720"/>
            <a:ext cx="419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74320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lítica de Est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descentr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3640" y="270828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32000" y="249228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Infraestructu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n general es defic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22860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este es el marco formal en el c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senvuelve la minería y todo está mas o menos resuelto y bien encaminad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cuáles son los facto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impiden el crecimiento del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828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3276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79640" y="3141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Falta de respeto a la auto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0520" y="253224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érdida de valo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838080"/>
            <a:ext cx="5333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Minería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ctividad for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8840" y="4726080"/>
            <a:ext cx="212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Verdana"/>
              </a:rPr>
              <a:t>Fuente: BC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95800" y="428616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03520" y="4591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6560" y="3284640"/>
            <a:ext cx="97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52880" y="3600360"/>
            <a:ext cx="103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2276640"/>
            <a:ext cx="48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Participación del sector minero en 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exportaciones to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a juli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914640" y="3062160"/>
            <a:ext cx="2442960" cy="1357200"/>
            <a:chOff x="3914640" y="3062160"/>
            <a:chExt cx="2442960" cy="1357200"/>
          </a:xfrm>
        </p:grpSpPr>
        <p:sp>
          <p:nvSpPr>
            <p:cNvPr id="95" name=""/>
            <p:cNvSpPr/>
            <p:nvPr/>
          </p:nvSpPr>
          <p:spPr>
            <a:xfrm>
              <a:off x="6249600" y="3989880"/>
              <a:ext cx="91800" cy="27828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112" y="232"/>
                  </a:moveTo>
                  <a:lnTo>
                    <a:pt x="112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14640" y="3500280"/>
              <a:ext cx="1107720" cy="919080"/>
            </a:xfrm>
            <a:custGeom>
              <a:avLst/>
              <a:gdLst/>
              <a:ahLst/>
              <a:rect l="l" t="t" r="r" b="b"/>
              <a:pathLst>
                <a:path w="1348" h="766">
                  <a:moveTo>
                    <a:pt x="1348" y="371"/>
                  </a:moveTo>
                  <a:lnTo>
                    <a:pt x="1324" y="371"/>
                  </a:lnTo>
                  <a:lnTo>
                    <a:pt x="1300" y="371"/>
                  </a:lnTo>
                  <a:lnTo>
                    <a:pt x="1270" y="365"/>
                  </a:lnTo>
                  <a:lnTo>
                    <a:pt x="1246" y="365"/>
                  </a:lnTo>
                  <a:lnTo>
                    <a:pt x="1222" y="365"/>
                  </a:lnTo>
                  <a:lnTo>
                    <a:pt x="1198" y="365"/>
                  </a:lnTo>
                  <a:lnTo>
                    <a:pt x="1175" y="365"/>
                  </a:lnTo>
                  <a:lnTo>
                    <a:pt x="1151" y="365"/>
                  </a:lnTo>
                  <a:lnTo>
                    <a:pt x="1127" y="359"/>
                  </a:lnTo>
                  <a:lnTo>
                    <a:pt x="1103" y="359"/>
                  </a:lnTo>
                  <a:lnTo>
                    <a:pt x="1079" y="359"/>
                  </a:lnTo>
                  <a:lnTo>
                    <a:pt x="1055" y="359"/>
                  </a:lnTo>
                  <a:lnTo>
                    <a:pt x="1031" y="353"/>
                  </a:lnTo>
                  <a:lnTo>
                    <a:pt x="1007" y="353"/>
                  </a:lnTo>
                  <a:lnTo>
                    <a:pt x="983" y="353"/>
                  </a:lnTo>
                  <a:lnTo>
                    <a:pt x="959" y="347"/>
                  </a:lnTo>
                  <a:lnTo>
                    <a:pt x="935" y="347"/>
                  </a:lnTo>
                  <a:lnTo>
                    <a:pt x="911" y="347"/>
                  </a:lnTo>
                  <a:lnTo>
                    <a:pt x="887" y="341"/>
                  </a:lnTo>
                  <a:lnTo>
                    <a:pt x="863" y="341"/>
                  </a:lnTo>
                  <a:lnTo>
                    <a:pt x="845" y="335"/>
                  </a:lnTo>
                  <a:lnTo>
                    <a:pt x="821" y="335"/>
                  </a:lnTo>
                  <a:lnTo>
                    <a:pt x="797" y="335"/>
                  </a:lnTo>
                  <a:lnTo>
                    <a:pt x="773" y="330"/>
                  </a:lnTo>
                  <a:lnTo>
                    <a:pt x="755" y="330"/>
                  </a:lnTo>
                  <a:lnTo>
                    <a:pt x="731" y="324"/>
                  </a:lnTo>
                  <a:lnTo>
                    <a:pt x="707" y="324"/>
                  </a:lnTo>
                  <a:lnTo>
                    <a:pt x="689" y="318"/>
                  </a:lnTo>
                  <a:lnTo>
                    <a:pt x="665" y="312"/>
                  </a:lnTo>
                  <a:lnTo>
                    <a:pt x="647" y="312"/>
                  </a:lnTo>
                  <a:lnTo>
                    <a:pt x="623" y="306"/>
                  </a:lnTo>
                  <a:lnTo>
                    <a:pt x="605" y="306"/>
                  </a:lnTo>
                  <a:lnTo>
                    <a:pt x="587" y="300"/>
                  </a:lnTo>
                  <a:lnTo>
                    <a:pt x="563" y="294"/>
                  </a:lnTo>
                  <a:lnTo>
                    <a:pt x="546" y="294"/>
                  </a:lnTo>
                  <a:lnTo>
                    <a:pt x="528" y="288"/>
                  </a:lnTo>
                  <a:lnTo>
                    <a:pt x="510" y="282"/>
                  </a:lnTo>
                  <a:lnTo>
                    <a:pt x="486" y="282"/>
                  </a:lnTo>
                  <a:lnTo>
                    <a:pt x="468" y="276"/>
                  </a:lnTo>
                  <a:lnTo>
                    <a:pt x="450" y="270"/>
                  </a:lnTo>
                  <a:lnTo>
                    <a:pt x="432" y="264"/>
                  </a:lnTo>
                  <a:lnTo>
                    <a:pt x="414" y="264"/>
                  </a:lnTo>
                  <a:lnTo>
                    <a:pt x="396" y="258"/>
                  </a:lnTo>
                  <a:lnTo>
                    <a:pt x="384" y="252"/>
                  </a:lnTo>
                  <a:lnTo>
                    <a:pt x="366" y="246"/>
                  </a:lnTo>
                  <a:lnTo>
                    <a:pt x="348" y="246"/>
                  </a:lnTo>
                  <a:lnTo>
                    <a:pt x="330" y="240"/>
                  </a:lnTo>
                  <a:lnTo>
                    <a:pt x="318" y="234"/>
                  </a:lnTo>
                  <a:lnTo>
                    <a:pt x="300" y="228"/>
                  </a:lnTo>
                  <a:lnTo>
                    <a:pt x="288" y="222"/>
                  </a:lnTo>
                  <a:lnTo>
                    <a:pt x="270" y="216"/>
                  </a:lnTo>
                  <a:lnTo>
                    <a:pt x="258" y="216"/>
                  </a:lnTo>
                  <a:lnTo>
                    <a:pt x="240" y="210"/>
                  </a:lnTo>
                  <a:lnTo>
                    <a:pt x="228" y="204"/>
                  </a:lnTo>
                  <a:lnTo>
                    <a:pt x="216" y="198"/>
                  </a:lnTo>
                  <a:lnTo>
                    <a:pt x="204" y="192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8" y="174"/>
                  </a:lnTo>
                  <a:lnTo>
                    <a:pt x="156" y="168"/>
                  </a:lnTo>
                  <a:lnTo>
                    <a:pt x="144" y="162"/>
                  </a:lnTo>
                  <a:lnTo>
                    <a:pt x="132" y="156"/>
                  </a:lnTo>
                  <a:lnTo>
                    <a:pt x="120" y="150"/>
                  </a:lnTo>
                  <a:lnTo>
                    <a:pt x="114" y="144"/>
                  </a:lnTo>
                  <a:lnTo>
                    <a:pt x="102" y="138"/>
                  </a:lnTo>
                  <a:lnTo>
                    <a:pt x="96" y="132"/>
                  </a:lnTo>
                  <a:lnTo>
                    <a:pt x="84" y="126"/>
                  </a:lnTo>
                  <a:lnTo>
                    <a:pt x="78" y="120"/>
                  </a:lnTo>
                  <a:lnTo>
                    <a:pt x="66" y="114"/>
                  </a:lnTo>
                  <a:lnTo>
                    <a:pt x="60" y="108"/>
                  </a:lnTo>
                  <a:lnTo>
                    <a:pt x="54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0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395"/>
                  </a:lnTo>
                  <a:lnTo>
                    <a:pt x="0" y="401"/>
                  </a:lnTo>
                  <a:lnTo>
                    <a:pt x="0" y="407"/>
                  </a:lnTo>
                  <a:lnTo>
                    <a:pt x="0" y="413"/>
                  </a:lnTo>
                  <a:lnTo>
                    <a:pt x="0" y="425"/>
                  </a:lnTo>
                  <a:lnTo>
                    <a:pt x="6" y="431"/>
                  </a:lnTo>
                  <a:lnTo>
                    <a:pt x="6" y="437"/>
                  </a:lnTo>
                  <a:lnTo>
                    <a:pt x="12" y="443"/>
                  </a:lnTo>
                  <a:lnTo>
                    <a:pt x="12" y="449"/>
                  </a:lnTo>
                  <a:lnTo>
                    <a:pt x="18" y="455"/>
                  </a:lnTo>
                  <a:lnTo>
                    <a:pt x="18" y="461"/>
                  </a:lnTo>
                  <a:lnTo>
                    <a:pt x="24" y="467"/>
                  </a:lnTo>
                  <a:lnTo>
                    <a:pt x="30" y="473"/>
                  </a:lnTo>
                  <a:lnTo>
                    <a:pt x="36" y="479"/>
                  </a:lnTo>
                  <a:lnTo>
                    <a:pt x="42" y="485"/>
                  </a:lnTo>
                  <a:lnTo>
                    <a:pt x="48" y="491"/>
                  </a:lnTo>
                  <a:lnTo>
                    <a:pt x="54" y="497"/>
                  </a:lnTo>
                  <a:lnTo>
                    <a:pt x="60" y="503"/>
                  </a:lnTo>
                  <a:lnTo>
                    <a:pt x="66" y="509"/>
                  </a:lnTo>
                  <a:lnTo>
                    <a:pt x="78" y="515"/>
                  </a:lnTo>
                  <a:lnTo>
                    <a:pt x="84" y="521"/>
                  </a:lnTo>
                  <a:lnTo>
                    <a:pt x="96" y="527"/>
                  </a:lnTo>
                  <a:lnTo>
                    <a:pt x="102" y="533"/>
                  </a:lnTo>
                  <a:lnTo>
                    <a:pt x="114" y="539"/>
                  </a:lnTo>
                  <a:lnTo>
                    <a:pt x="120" y="545"/>
                  </a:lnTo>
                  <a:lnTo>
                    <a:pt x="132" y="551"/>
                  </a:lnTo>
                  <a:lnTo>
                    <a:pt x="144" y="557"/>
                  </a:lnTo>
                  <a:lnTo>
                    <a:pt x="156" y="563"/>
                  </a:lnTo>
                  <a:lnTo>
                    <a:pt x="168" y="569"/>
                  </a:lnTo>
                  <a:lnTo>
                    <a:pt x="180" y="575"/>
                  </a:lnTo>
                  <a:lnTo>
                    <a:pt x="192" y="581"/>
                  </a:lnTo>
                  <a:lnTo>
                    <a:pt x="204" y="587"/>
                  </a:lnTo>
                  <a:lnTo>
                    <a:pt x="216" y="593"/>
                  </a:lnTo>
                  <a:lnTo>
                    <a:pt x="228" y="599"/>
                  </a:lnTo>
                  <a:lnTo>
                    <a:pt x="240" y="605"/>
                  </a:lnTo>
                  <a:lnTo>
                    <a:pt x="258" y="611"/>
                  </a:lnTo>
                  <a:lnTo>
                    <a:pt x="270" y="611"/>
                  </a:lnTo>
                  <a:lnTo>
                    <a:pt x="288" y="617"/>
                  </a:lnTo>
                  <a:lnTo>
                    <a:pt x="300" y="623"/>
                  </a:lnTo>
                  <a:lnTo>
                    <a:pt x="318" y="629"/>
                  </a:lnTo>
                  <a:lnTo>
                    <a:pt x="330" y="635"/>
                  </a:lnTo>
                  <a:lnTo>
                    <a:pt x="348" y="641"/>
                  </a:lnTo>
                  <a:lnTo>
                    <a:pt x="366" y="641"/>
                  </a:lnTo>
                  <a:lnTo>
                    <a:pt x="384" y="647"/>
                  </a:lnTo>
                  <a:lnTo>
                    <a:pt x="396" y="653"/>
                  </a:lnTo>
                  <a:lnTo>
                    <a:pt x="414" y="659"/>
                  </a:lnTo>
                  <a:lnTo>
                    <a:pt x="432" y="659"/>
                  </a:lnTo>
                  <a:lnTo>
                    <a:pt x="450" y="665"/>
                  </a:lnTo>
                  <a:lnTo>
                    <a:pt x="468" y="671"/>
                  </a:lnTo>
                  <a:lnTo>
                    <a:pt x="486" y="677"/>
                  </a:lnTo>
                  <a:lnTo>
                    <a:pt x="510" y="677"/>
                  </a:lnTo>
                  <a:lnTo>
                    <a:pt x="528" y="683"/>
                  </a:lnTo>
                  <a:lnTo>
                    <a:pt x="546" y="689"/>
                  </a:lnTo>
                  <a:lnTo>
                    <a:pt x="563" y="689"/>
                  </a:lnTo>
                  <a:lnTo>
                    <a:pt x="587" y="695"/>
                  </a:lnTo>
                  <a:lnTo>
                    <a:pt x="605" y="701"/>
                  </a:lnTo>
                  <a:lnTo>
                    <a:pt x="623" y="701"/>
                  </a:lnTo>
                  <a:lnTo>
                    <a:pt x="647" y="707"/>
                  </a:lnTo>
                  <a:lnTo>
                    <a:pt x="665" y="707"/>
                  </a:lnTo>
                  <a:lnTo>
                    <a:pt x="689" y="713"/>
                  </a:lnTo>
                  <a:lnTo>
                    <a:pt x="707" y="719"/>
                  </a:lnTo>
                  <a:lnTo>
                    <a:pt x="731" y="719"/>
                  </a:lnTo>
                  <a:lnTo>
                    <a:pt x="755" y="725"/>
                  </a:lnTo>
                  <a:lnTo>
                    <a:pt x="773" y="725"/>
                  </a:lnTo>
                  <a:lnTo>
                    <a:pt x="797" y="731"/>
                  </a:lnTo>
                  <a:lnTo>
                    <a:pt x="821" y="731"/>
                  </a:lnTo>
                  <a:lnTo>
                    <a:pt x="845" y="731"/>
                  </a:lnTo>
                  <a:lnTo>
                    <a:pt x="863" y="737"/>
                  </a:lnTo>
                  <a:lnTo>
                    <a:pt x="887" y="737"/>
                  </a:lnTo>
                  <a:lnTo>
                    <a:pt x="911" y="743"/>
                  </a:lnTo>
                  <a:lnTo>
                    <a:pt x="935" y="743"/>
                  </a:lnTo>
                  <a:lnTo>
                    <a:pt x="959" y="743"/>
                  </a:lnTo>
                  <a:lnTo>
                    <a:pt x="983" y="749"/>
                  </a:lnTo>
                  <a:lnTo>
                    <a:pt x="1007" y="749"/>
                  </a:lnTo>
                  <a:lnTo>
                    <a:pt x="1031" y="749"/>
                  </a:lnTo>
                  <a:lnTo>
                    <a:pt x="1055" y="755"/>
                  </a:lnTo>
                  <a:lnTo>
                    <a:pt x="1079" y="755"/>
                  </a:lnTo>
                  <a:lnTo>
                    <a:pt x="1103" y="755"/>
                  </a:lnTo>
                  <a:lnTo>
                    <a:pt x="1127" y="755"/>
                  </a:lnTo>
                  <a:lnTo>
                    <a:pt x="1151" y="761"/>
                  </a:lnTo>
                  <a:lnTo>
                    <a:pt x="1175" y="761"/>
                  </a:lnTo>
                  <a:lnTo>
                    <a:pt x="1198" y="761"/>
                  </a:lnTo>
                  <a:lnTo>
                    <a:pt x="1222" y="761"/>
                  </a:lnTo>
                  <a:lnTo>
                    <a:pt x="1246" y="761"/>
                  </a:lnTo>
                  <a:lnTo>
                    <a:pt x="1270" y="761"/>
                  </a:lnTo>
                  <a:lnTo>
                    <a:pt x="1300" y="766"/>
                  </a:lnTo>
                  <a:lnTo>
                    <a:pt x="1324" y="766"/>
                  </a:lnTo>
                  <a:lnTo>
                    <a:pt x="1348" y="766"/>
                  </a:lnTo>
                  <a:lnTo>
                    <a:pt x="1348" y="371"/>
                  </a:lnTo>
                  <a:lnTo>
                    <a:pt x="1348" y="371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2360" y="3500280"/>
              <a:ext cx="59040" cy="913320"/>
            </a:xfrm>
            <a:custGeom>
              <a:avLst/>
              <a:gdLst/>
              <a:ahLst/>
              <a:rect l="l" t="t" r="r" b="b"/>
              <a:pathLst>
                <a:path w="72" h="761">
                  <a:moveTo>
                    <a:pt x="72" y="0"/>
                  </a:moveTo>
                  <a:lnTo>
                    <a:pt x="0" y="365"/>
                  </a:lnTo>
                  <a:lnTo>
                    <a:pt x="0" y="761"/>
                  </a:lnTo>
                  <a:lnTo>
                    <a:pt x="72" y="39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14640" y="3062160"/>
              <a:ext cx="1166760" cy="883440"/>
            </a:xfrm>
            <a:custGeom>
              <a:avLst/>
              <a:gdLst/>
              <a:ahLst/>
              <a:rect l="l" t="t" r="r" b="b"/>
              <a:pathLst>
                <a:path w="1420" h="736">
                  <a:moveTo>
                    <a:pt x="1348" y="736"/>
                  </a:moveTo>
                  <a:lnTo>
                    <a:pt x="1324" y="736"/>
                  </a:lnTo>
                  <a:lnTo>
                    <a:pt x="1300" y="736"/>
                  </a:lnTo>
                  <a:lnTo>
                    <a:pt x="1270" y="730"/>
                  </a:lnTo>
                  <a:lnTo>
                    <a:pt x="1246" y="730"/>
                  </a:lnTo>
                  <a:lnTo>
                    <a:pt x="1222" y="730"/>
                  </a:lnTo>
                  <a:lnTo>
                    <a:pt x="1198" y="730"/>
                  </a:lnTo>
                  <a:lnTo>
                    <a:pt x="1175" y="730"/>
                  </a:lnTo>
                  <a:lnTo>
                    <a:pt x="1151" y="730"/>
                  </a:lnTo>
                  <a:lnTo>
                    <a:pt x="1127" y="724"/>
                  </a:lnTo>
                  <a:lnTo>
                    <a:pt x="1103" y="724"/>
                  </a:lnTo>
                  <a:lnTo>
                    <a:pt x="1079" y="724"/>
                  </a:lnTo>
                  <a:lnTo>
                    <a:pt x="1055" y="724"/>
                  </a:lnTo>
                  <a:lnTo>
                    <a:pt x="1031" y="718"/>
                  </a:lnTo>
                  <a:lnTo>
                    <a:pt x="1007" y="718"/>
                  </a:lnTo>
                  <a:lnTo>
                    <a:pt x="983" y="718"/>
                  </a:lnTo>
                  <a:lnTo>
                    <a:pt x="959" y="712"/>
                  </a:lnTo>
                  <a:lnTo>
                    <a:pt x="935" y="712"/>
                  </a:lnTo>
                  <a:lnTo>
                    <a:pt x="911" y="712"/>
                  </a:lnTo>
                  <a:lnTo>
                    <a:pt x="887" y="706"/>
                  </a:lnTo>
                  <a:lnTo>
                    <a:pt x="863" y="706"/>
                  </a:lnTo>
                  <a:lnTo>
                    <a:pt x="845" y="700"/>
                  </a:lnTo>
                  <a:lnTo>
                    <a:pt x="821" y="700"/>
                  </a:lnTo>
                  <a:lnTo>
                    <a:pt x="797" y="700"/>
                  </a:lnTo>
                  <a:lnTo>
                    <a:pt x="773" y="695"/>
                  </a:lnTo>
                  <a:lnTo>
                    <a:pt x="755" y="695"/>
                  </a:lnTo>
                  <a:lnTo>
                    <a:pt x="731" y="689"/>
                  </a:lnTo>
                  <a:lnTo>
                    <a:pt x="707" y="689"/>
                  </a:lnTo>
                  <a:lnTo>
                    <a:pt x="689" y="683"/>
                  </a:lnTo>
                  <a:lnTo>
                    <a:pt x="665" y="677"/>
                  </a:lnTo>
                  <a:lnTo>
                    <a:pt x="647" y="677"/>
                  </a:lnTo>
                  <a:lnTo>
                    <a:pt x="623" y="671"/>
                  </a:lnTo>
                  <a:lnTo>
                    <a:pt x="605" y="671"/>
                  </a:lnTo>
                  <a:lnTo>
                    <a:pt x="587" y="665"/>
                  </a:lnTo>
                  <a:lnTo>
                    <a:pt x="563" y="659"/>
                  </a:lnTo>
                  <a:lnTo>
                    <a:pt x="546" y="659"/>
                  </a:lnTo>
                  <a:lnTo>
                    <a:pt x="528" y="653"/>
                  </a:lnTo>
                  <a:lnTo>
                    <a:pt x="510" y="647"/>
                  </a:lnTo>
                  <a:lnTo>
                    <a:pt x="486" y="647"/>
                  </a:lnTo>
                  <a:lnTo>
                    <a:pt x="468" y="641"/>
                  </a:lnTo>
                  <a:lnTo>
                    <a:pt x="450" y="635"/>
                  </a:lnTo>
                  <a:lnTo>
                    <a:pt x="432" y="629"/>
                  </a:lnTo>
                  <a:lnTo>
                    <a:pt x="414" y="629"/>
                  </a:lnTo>
                  <a:lnTo>
                    <a:pt x="396" y="623"/>
                  </a:lnTo>
                  <a:lnTo>
                    <a:pt x="384" y="617"/>
                  </a:lnTo>
                  <a:lnTo>
                    <a:pt x="366" y="611"/>
                  </a:lnTo>
                  <a:lnTo>
                    <a:pt x="348" y="611"/>
                  </a:lnTo>
                  <a:lnTo>
                    <a:pt x="330" y="605"/>
                  </a:lnTo>
                  <a:lnTo>
                    <a:pt x="318" y="599"/>
                  </a:lnTo>
                  <a:lnTo>
                    <a:pt x="300" y="593"/>
                  </a:lnTo>
                  <a:lnTo>
                    <a:pt x="288" y="587"/>
                  </a:lnTo>
                  <a:lnTo>
                    <a:pt x="270" y="581"/>
                  </a:lnTo>
                  <a:lnTo>
                    <a:pt x="258" y="581"/>
                  </a:lnTo>
                  <a:lnTo>
                    <a:pt x="240" y="575"/>
                  </a:lnTo>
                  <a:lnTo>
                    <a:pt x="228" y="569"/>
                  </a:lnTo>
                  <a:lnTo>
                    <a:pt x="216" y="563"/>
                  </a:lnTo>
                  <a:lnTo>
                    <a:pt x="204" y="557"/>
                  </a:lnTo>
                  <a:lnTo>
                    <a:pt x="192" y="551"/>
                  </a:lnTo>
                  <a:lnTo>
                    <a:pt x="180" y="545"/>
                  </a:lnTo>
                  <a:lnTo>
                    <a:pt x="168" y="539"/>
                  </a:lnTo>
                  <a:lnTo>
                    <a:pt x="156" y="533"/>
                  </a:lnTo>
                  <a:lnTo>
                    <a:pt x="144" y="527"/>
                  </a:lnTo>
                  <a:lnTo>
                    <a:pt x="132" y="521"/>
                  </a:lnTo>
                  <a:lnTo>
                    <a:pt x="120" y="515"/>
                  </a:lnTo>
                  <a:lnTo>
                    <a:pt x="114" y="509"/>
                  </a:lnTo>
                  <a:lnTo>
                    <a:pt x="102" y="503"/>
                  </a:lnTo>
                  <a:lnTo>
                    <a:pt x="96" y="497"/>
                  </a:lnTo>
                  <a:lnTo>
                    <a:pt x="84" y="491"/>
                  </a:lnTo>
                  <a:lnTo>
                    <a:pt x="78" y="485"/>
                  </a:lnTo>
                  <a:lnTo>
                    <a:pt x="66" y="479"/>
                  </a:lnTo>
                  <a:lnTo>
                    <a:pt x="60" y="473"/>
                  </a:lnTo>
                  <a:lnTo>
                    <a:pt x="54" y="467"/>
                  </a:lnTo>
                  <a:lnTo>
                    <a:pt x="48" y="461"/>
                  </a:lnTo>
                  <a:lnTo>
                    <a:pt x="42" y="455"/>
                  </a:lnTo>
                  <a:lnTo>
                    <a:pt x="36" y="449"/>
                  </a:lnTo>
                  <a:lnTo>
                    <a:pt x="30" y="443"/>
                  </a:lnTo>
                  <a:lnTo>
                    <a:pt x="24" y="437"/>
                  </a:lnTo>
                  <a:lnTo>
                    <a:pt x="18" y="431"/>
                  </a:lnTo>
                  <a:lnTo>
                    <a:pt x="18" y="425"/>
                  </a:lnTo>
                  <a:lnTo>
                    <a:pt x="12" y="419"/>
                  </a:lnTo>
                  <a:lnTo>
                    <a:pt x="12" y="413"/>
                  </a:lnTo>
                  <a:lnTo>
                    <a:pt x="6" y="407"/>
                  </a:lnTo>
                  <a:lnTo>
                    <a:pt x="6" y="40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7"/>
                  </a:lnTo>
                  <a:lnTo>
                    <a:pt x="0" y="371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1"/>
                  </a:lnTo>
                  <a:lnTo>
                    <a:pt x="6" y="335"/>
                  </a:lnTo>
                  <a:lnTo>
                    <a:pt x="6" y="329"/>
                  </a:lnTo>
                  <a:lnTo>
                    <a:pt x="12" y="323"/>
                  </a:lnTo>
                  <a:lnTo>
                    <a:pt x="12" y="317"/>
                  </a:lnTo>
                  <a:lnTo>
                    <a:pt x="18" y="311"/>
                  </a:lnTo>
                  <a:lnTo>
                    <a:pt x="18" y="305"/>
                  </a:lnTo>
                  <a:lnTo>
                    <a:pt x="24" y="299"/>
                  </a:lnTo>
                  <a:lnTo>
                    <a:pt x="30" y="287"/>
                  </a:lnTo>
                  <a:lnTo>
                    <a:pt x="36" y="281"/>
                  </a:lnTo>
                  <a:lnTo>
                    <a:pt x="42" y="275"/>
                  </a:lnTo>
                  <a:lnTo>
                    <a:pt x="48" y="270"/>
                  </a:lnTo>
                  <a:lnTo>
                    <a:pt x="54" y="264"/>
                  </a:lnTo>
                  <a:lnTo>
                    <a:pt x="60" y="258"/>
                  </a:lnTo>
                  <a:lnTo>
                    <a:pt x="66" y="252"/>
                  </a:lnTo>
                  <a:lnTo>
                    <a:pt x="78" y="246"/>
                  </a:lnTo>
                  <a:lnTo>
                    <a:pt x="84" y="240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32" y="210"/>
                  </a:lnTo>
                  <a:lnTo>
                    <a:pt x="144" y="204"/>
                  </a:lnTo>
                  <a:lnTo>
                    <a:pt x="156" y="198"/>
                  </a:lnTo>
                  <a:lnTo>
                    <a:pt x="168" y="192"/>
                  </a:lnTo>
                  <a:lnTo>
                    <a:pt x="180" y="186"/>
                  </a:lnTo>
                  <a:lnTo>
                    <a:pt x="192" y="180"/>
                  </a:lnTo>
                  <a:lnTo>
                    <a:pt x="204" y="180"/>
                  </a:lnTo>
                  <a:lnTo>
                    <a:pt x="216" y="174"/>
                  </a:lnTo>
                  <a:lnTo>
                    <a:pt x="228" y="168"/>
                  </a:lnTo>
                  <a:lnTo>
                    <a:pt x="240" y="162"/>
                  </a:lnTo>
                  <a:lnTo>
                    <a:pt x="258" y="156"/>
                  </a:lnTo>
                  <a:lnTo>
                    <a:pt x="270" y="150"/>
                  </a:lnTo>
                  <a:lnTo>
                    <a:pt x="288" y="144"/>
                  </a:lnTo>
                  <a:lnTo>
                    <a:pt x="300" y="138"/>
                  </a:lnTo>
                  <a:lnTo>
                    <a:pt x="318" y="138"/>
                  </a:lnTo>
                  <a:lnTo>
                    <a:pt x="330" y="132"/>
                  </a:lnTo>
                  <a:lnTo>
                    <a:pt x="348" y="126"/>
                  </a:lnTo>
                  <a:lnTo>
                    <a:pt x="366" y="120"/>
                  </a:lnTo>
                  <a:lnTo>
                    <a:pt x="384" y="114"/>
                  </a:lnTo>
                  <a:lnTo>
                    <a:pt x="396" y="114"/>
                  </a:lnTo>
                  <a:lnTo>
                    <a:pt x="414" y="108"/>
                  </a:lnTo>
                  <a:lnTo>
                    <a:pt x="432" y="102"/>
                  </a:lnTo>
                  <a:lnTo>
                    <a:pt x="450" y="96"/>
                  </a:lnTo>
                  <a:lnTo>
                    <a:pt x="468" y="96"/>
                  </a:lnTo>
                  <a:lnTo>
                    <a:pt x="486" y="90"/>
                  </a:lnTo>
                  <a:lnTo>
                    <a:pt x="510" y="84"/>
                  </a:lnTo>
                  <a:lnTo>
                    <a:pt x="528" y="78"/>
                  </a:lnTo>
                  <a:lnTo>
                    <a:pt x="546" y="78"/>
                  </a:lnTo>
                  <a:lnTo>
                    <a:pt x="563" y="72"/>
                  </a:lnTo>
                  <a:lnTo>
                    <a:pt x="587" y="66"/>
                  </a:lnTo>
                  <a:lnTo>
                    <a:pt x="605" y="66"/>
                  </a:lnTo>
                  <a:lnTo>
                    <a:pt x="623" y="60"/>
                  </a:lnTo>
                  <a:lnTo>
                    <a:pt x="647" y="60"/>
                  </a:lnTo>
                  <a:lnTo>
                    <a:pt x="665" y="54"/>
                  </a:lnTo>
                  <a:lnTo>
                    <a:pt x="689" y="54"/>
                  </a:lnTo>
                  <a:lnTo>
                    <a:pt x="707" y="48"/>
                  </a:lnTo>
                  <a:lnTo>
                    <a:pt x="731" y="42"/>
                  </a:lnTo>
                  <a:lnTo>
                    <a:pt x="755" y="42"/>
                  </a:lnTo>
                  <a:lnTo>
                    <a:pt x="773" y="36"/>
                  </a:lnTo>
                  <a:lnTo>
                    <a:pt x="797" y="36"/>
                  </a:lnTo>
                  <a:lnTo>
                    <a:pt x="821" y="36"/>
                  </a:lnTo>
                  <a:lnTo>
                    <a:pt x="845" y="30"/>
                  </a:lnTo>
                  <a:lnTo>
                    <a:pt x="863" y="30"/>
                  </a:lnTo>
                  <a:lnTo>
                    <a:pt x="887" y="24"/>
                  </a:lnTo>
                  <a:lnTo>
                    <a:pt x="911" y="24"/>
                  </a:lnTo>
                  <a:lnTo>
                    <a:pt x="935" y="18"/>
                  </a:lnTo>
                  <a:lnTo>
                    <a:pt x="959" y="18"/>
                  </a:lnTo>
                  <a:lnTo>
                    <a:pt x="983" y="18"/>
                  </a:lnTo>
                  <a:lnTo>
                    <a:pt x="1007" y="12"/>
                  </a:lnTo>
                  <a:lnTo>
                    <a:pt x="1031" y="12"/>
                  </a:lnTo>
                  <a:lnTo>
                    <a:pt x="1055" y="12"/>
                  </a:lnTo>
                  <a:lnTo>
                    <a:pt x="1079" y="12"/>
                  </a:lnTo>
                  <a:lnTo>
                    <a:pt x="1103" y="6"/>
                  </a:lnTo>
                  <a:lnTo>
                    <a:pt x="1127" y="6"/>
                  </a:lnTo>
                  <a:lnTo>
                    <a:pt x="1151" y="6"/>
                  </a:lnTo>
                  <a:lnTo>
                    <a:pt x="1175" y="6"/>
                  </a:lnTo>
                  <a:lnTo>
                    <a:pt x="1198" y="6"/>
                  </a:lnTo>
                  <a:lnTo>
                    <a:pt x="1222" y="0"/>
                  </a:lnTo>
                  <a:lnTo>
                    <a:pt x="1246" y="0"/>
                  </a:lnTo>
                  <a:lnTo>
                    <a:pt x="1270" y="0"/>
                  </a:lnTo>
                  <a:lnTo>
                    <a:pt x="1300" y="0"/>
                  </a:lnTo>
                  <a:lnTo>
                    <a:pt x="1324" y="0"/>
                  </a:lnTo>
                  <a:lnTo>
                    <a:pt x="1348" y="0"/>
                  </a:lnTo>
                  <a:lnTo>
                    <a:pt x="1372" y="0"/>
                  </a:lnTo>
                  <a:lnTo>
                    <a:pt x="1396" y="0"/>
                  </a:lnTo>
                  <a:lnTo>
                    <a:pt x="1420" y="0"/>
                  </a:lnTo>
                  <a:lnTo>
                    <a:pt x="1420" y="365"/>
                  </a:lnTo>
                  <a:lnTo>
                    <a:pt x="1348" y="736"/>
                  </a:lnTo>
                  <a:lnTo>
                    <a:pt x="1348" y="73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2360" y="3500280"/>
              <a:ext cx="1231200" cy="919080"/>
            </a:xfrm>
            <a:custGeom>
              <a:avLst/>
              <a:gdLst/>
              <a:ahLst/>
              <a:rect l="l" t="t" r="r" b="b"/>
              <a:pathLst>
                <a:path w="1498" h="766">
                  <a:moveTo>
                    <a:pt x="1498" y="0"/>
                  </a:moveTo>
                  <a:lnTo>
                    <a:pt x="1498" y="6"/>
                  </a:lnTo>
                  <a:lnTo>
                    <a:pt x="1498" y="12"/>
                  </a:lnTo>
                  <a:lnTo>
                    <a:pt x="1492" y="18"/>
                  </a:lnTo>
                  <a:lnTo>
                    <a:pt x="1492" y="30"/>
                  </a:lnTo>
                  <a:lnTo>
                    <a:pt x="1492" y="36"/>
                  </a:lnTo>
                  <a:lnTo>
                    <a:pt x="1486" y="42"/>
                  </a:lnTo>
                  <a:lnTo>
                    <a:pt x="1486" y="48"/>
                  </a:lnTo>
                  <a:lnTo>
                    <a:pt x="1480" y="54"/>
                  </a:lnTo>
                  <a:lnTo>
                    <a:pt x="1480" y="60"/>
                  </a:lnTo>
                  <a:lnTo>
                    <a:pt x="1474" y="66"/>
                  </a:lnTo>
                  <a:lnTo>
                    <a:pt x="1468" y="72"/>
                  </a:lnTo>
                  <a:lnTo>
                    <a:pt x="1468" y="78"/>
                  </a:lnTo>
                  <a:lnTo>
                    <a:pt x="1462" y="84"/>
                  </a:lnTo>
                  <a:lnTo>
                    <a:pt x="1456" y="90"/>
                  </a:lnTo>
                  <a:lnTo>
                    <a:pt x="1450" y="96"/>
                  </a:lnTo>
                  <a:lnTo>
                    <a:pt x="1444" y="102"/>
                  </a:lnTo>
                  <a:lnTo>
                    <a:pt x="1432" y="108"/>
                  </a:lnTo>
                  <a:lnTo>
                    <a:pt x="1426" y="114"/>
                  </a:lnTo>
                  <a:lnTo>
                    <a:pt x="1420" y="120"/>
                  </a:lnTo>
                  <a:lnTo>
                    <a:pt x="1408" y="126"/>
                  </a:lnTo>
                  <a:lnTo>
                    <a:pt x="1402" y="132"/>
                  </a:lnTo>
                  <a:lnTo>
                    <a:pt x="1390" y="138"/>
                  </a:lnTo>
                  <a:lnTo>
                    <a:pt x="1384" y="144"/>
                  </a:lnTo>
                  <a:lnTo>
                    <a:pt x="1372" y="150"/>
                  </a:lnTo>
                  <a:lnTo>
                    <a:pt x="1360" y="156"/>
                  </a:lnTo>
                  <a:lnTo>
                    <a:pt x="1354" y="162"/>
                  </a:lnTo>
                  <a:lnTo>
                    <a:pt x="1342" y="168"/>
                  </a:lnTo>
                  <a:lnTo>
                    <a:pt x="1330" y="174"/>
                  </a:lnTo>
                  <a:lnTo>
                    <a:pt x="1318" y="180"/>
                  </a:lnTo>
                  <a:lnTo>
                    <a:pt x="1306" y="186"/>
                  </a:lnTo>
                  <a:lnTo>
                    <a:pt x="1294" y="192"/>
                  </a:lnTo>
                  <a:lnTo>
                    <a:pt x="1282" y="198"/>
                  </a:lnTo>
                  <a:lnTo>
                    <a:pt x="1264" y="204"/>
                  </a:lnTo>
                  <a:lnTo>
                    <a:pt x="1252" y="210"/>
                  </a:lnTo>
                  <a:lnTo>
                    <a:pt x="1240" y="216"/>
                  </a:lnTo>
                  <a:lnTo>
                    <a:pt x="1222" y="216"/>
                  </a:lnTo>
                  <a:lnTo>
                    <a:pt x="1210" y="222"/>
                  </a:lnTo>
                  <a:lnTo>
                    <a:pt x="1192" y="228"/>
                  </a:lnTo>
                  <a:lnTo>
                    <a:pt x="1180" y="234"/>
                  </a:lnTo>
                  <a:lnTo>
                    <a:pt x="1162" y="240"/>
                  </a:lnTo>
                  <a:lnTo>
                    <a:pt x="1144" y="246"/>
                  </a:lnTo>
                  <a:lnTo>
                    <a:pt x="1132" y="246"/>
                  </a:lnTo>
                  <a:lnTo>
                    <a:pt x="1115" y="252"/>
                  </a:lnTo>
                  <a:lnTo>
                    <a:pt x="1097" y="258"/>
                  </a:lnTo>
                  <a:lnTo>
                    <a:pt x="1079" y="264"/>
                  </a:lnTo>
                  <a:lnTo>
                    <a:pt x="1061" y="264"/>
                  </a:lnTo>
                  <a:lnTo>
                    <a:pt x="1043" y="270"/>
                  </a:lnTo>
                  <a:lnTo>
                    <a:pt x="1025" y="276"/>
                  </a:lnTo>
                  <a:lnTo>
                    <a:pt x="1007" y="282"/>
                  </a:lnTo>
                  <a:lnTo>
                    <a:pt x="989" y="282"/>
                  </a:lnTo>
                  <a:lnTo>
                    <a:pt x="971" y="288"/>
                  </a:lnTo>
                  <a:lnTo>
                    <a:pt x="947" y="294"/>
                  </a:lnTo>
                  <a:lnTo>
                    <a:pt x="929" y="294"/>
                  </a:lnTo>
                  <a:lnTo>
                    <a:pt x="911" y="300"/>
                  </a:lnTo>
                  <a:lnTo>
                    <a:pt x="887" y="306"/>
                  </a:lnTo>
                  <a:lnTo>
                    <a:pt x="869" y="306"/>
                  </a:lnTo>
                  <a:lnTo>
                    <a:pt x="851" y="312"/>
                  </a:lnTo>
                  <a:lnTo>
                    <a:pt x="827" y="312"/>
                  </a:lnTo>
                  <a:lnTo>
                    <a:pt x="809" y="318"/>
                  </a:lnTo>
                  <a:lnTo>
                    <a:pt x="785" y="324"/>
                  </a:lnTo>
                  <a:lnTo>
                    <a:pt x="761" y="324"/>
                  </a:lnTo>
                  <a:lnTo>
                    <a:pt x="743" y="330"/>
                  </a:lnTo>
                  <a:lnTo>
                    <a:pt x="719" y="330"/>
                  </a:lnTo>
                  <a:lnTo>
                    <a:pt x="695" y="335"/>
                  </a:lnTo>
                  <a:lnTo>
                    <a:pt x="677" y="335"/>
                  </a:lnTo>
                  <a:lnTo>
                    <a:pt x="653" y="335"/>
                  </a:lnTo>
                  <a:lnTo>
                    <a:pt x="629" y="341"/>
                  </a:lnTo>
                  <a:lnTo>
                    <a:pt x="605" y="341"/>
                  </a:lnTo>
                  <a:lnTo>
                    <a:pt x="581" y="347"/>
                  </a:lnTo>
                  <a:lnTo>
                    <a:pt x="557" y="347"/>
                  </a:lnTo>
                  <a:lnTo>
                    <a:pt x="539" y="347"/>
                  </a:lnTo>
                  <a:lnTo>
                    <a:pt x="515" y="353"/>
                  </a:lnTo>
                  <a:lnTo>
                    <a:pt x="491" y="353"/>
                  </a:lnTo>
                  <a:lnTo>
                    <a:pt x="468" y="353"/>
                  </a:lnTo>
                  <a:lnTo>
                    <a:pt x="444" y="359"/>
                  </a:lnTo>
                  <a:lnTo>
                    <a:pt x="420" y="359"/>
                  </a:lnTo>
                  <a:lnTo>
                    <a:pt x="396" y="359"/>
                  </a:lnTo>
                  <a:lnTo>
                    <a:pt x="372" y="359"/>
                  </a:lnTo>
                  <a:lnTo>
                    <a:pt x="348" y="365"/>
                  </a:lnTo>
                  <a:lnTo>
                    <a:pt x="318" y="365"/>
                  </a:lnTo>
                  <a:lnTo>
                    <a:pt x="294" y="365"/>
                  </a:lnTo>
                  <a:lnTo>
                    <a:pt x="270" y="365"/>
                  </a:lnTo>
                  <a:lnTo>
                    <a:pt x="246" y="365"/>
                  </a:lnTo>
                  <a:lnTo>
                    <a:pt x="222" y="365"/>
                  </a:lnTo>
                  <a:lnTo>
                    <a:pt x="198" y="371"/>
                  </a:lnTo>
                  <a:lnTo>
                    <a:pt x="174" y="371"/>
                  </a:lnTo>
                  <a:lnTo>
                    <a:pt x="150" y="371"/>
                  </a:lnTo>
                  <a:lnTo>
                    <a:pt x="126" y="371"/>
                  </a:lnTo>
                  <a:lnTo>
                    <a:pt x="96" y="371"/>
                  </a:lnTo>
                  <a:lnTo>
                    <a:pt x="72" y="371"/>
                  </a:lnTo>
                  <a:lnTo>
                    <a:pt x="48" y="371"/>
                  </a:lnTo>
                  <a:lnTo>
                    <a:pt x="24" y="371"/>
                  </a:lnTo>
                  <a:lnTo>
                    <a:pt x="0" y="371"/>
                  </a:lnTo>
                  <a:lnTo>
                    <a:pt x="0" y="766"/>
                  </a:lnTo>
                  <a:lnTo>
                    <a:pt x="24" y="766"/>
                  </a:lnTo>
                  <a:lnTo>
                    <a:pt x="48" y="766"/>
                  </a:lnTo>
                  <a:lnTo>
                    <a:pt x="72" y="766"/>
                  </a:lnTo>
                  <a:lnTo>
                    <a:pt x="96" y="766"/>
                  </a:lnTo>
                  <a:lnTo>
                    <a:pt x="126" y="766"/>
                  </a:lnTo>
                  <a:lnTo>
                    <a:pt x="150" y="766"/>
                  </a:lnTo>
                  <a:lnTo>
                    <a:pt x="174" y="766"/>
                  </a:lnTo>
                  <a:lnTo>
                    <a:pt x="198" y="766"/>
                  </a:lnTo>
                  <a:lnTo>
                    <a:pt x="222" y="761"/>
                  </a:lnTo>
                  <a:lnTo>
                    <a:pt x="246" y="761"/>
                  </a:lnTo>
                  <a:lnTo>
                    <a:pt x="270" y="761"/>
                  </a:lnTo>
                  <a:lnTo>
                    <a:pt x="294" y="761"/>
                  </a:lnTo>
                  <a:lnTo>
                    <a:pt x="318" y="761"/>
                  </a:lnTo>
                  <a:lnTo>
                    <a:pt x="348" y="761"/>
                  </a:lnTo>
                  <a:lnTo>
                    <a:pt x="372" y="755"/>
                  </a:lnTo>
                  <a:lnTo>
                    <a:pt x="396" y="755"/>
                  </a:lnTo>
                  <a:lnTo>
                    <a:pt x="420" y="755"/>
                  </a:lnTo>
                  <a:lnTo>
                    <a:pt x="444" y="755"/>
                  </a:lnTo>
                  <a:lnTo>
                    <a:pt x="468" y="749"/>
                  </a:lnTo>
                  <a:lnTo>
                    <a:pt x="491" y="749"/>
                  </a:lnTo>
                  <a:lnTo>
                    <a:pt x="515" y="749"/>
                  </a:lnTo>
                  <a:lnTo>
                    <a:pt x="539" y="743"/>
                  </a:lnTo>
                  <a:lnTo>
                    <a:pt x="557" y="743"/>
                  </a:lnTo>
                  <a:lnTo>
                    <a:pt x="581" y="743"/>
                  </a:lnTo>
                  <a:lnTo>
                    <a:pt x="605" y="737"/>
                  </a:lnTo>
                  <a:lnTo>
                    <a:pt x="629" y="737"/>
                  </a:lnTo>
                  <a:lnTo>
                    <a:pt x="653" y="731"/>
                  </a:lnTo>
                  <a:lnTo>
                    <a:pt x="677" y="731"/>
                  </a:lnTo>
                  <a:lnTo>
                    <a:pt x="695" y="731"/>
                  </a:lnTo>
                  <a:lnTo>
                    <a:pt x="719" y="725"/>
                  </a:lnTo>
                  <a:lnTo>
                    <a:pt x="743" y="725"/>
                  </a:lnTo>
                  <a:lnTo>
                    <a:pt x="761" y="719"/>
                  </a:lnTo>
                  <a:lnTo>
                    <a:pt x="785" y="719"/>
                  </a:lnTo>
                  <a:lnTo>
                    <a:pt x="809" y="713"/>
                  </a:lnTo>
                  <a:lnTo>
                    <a:pt x="827" y="707"/>
                  </a:lnTo>
                  <a:lnTo>
                    <a:pt x="851" y="707"/>
                  </a:lnTo>
                  <a:lnTo>
                    <a:pt x="869" y="701"/>
                  </a:lnTo>
                  <a:lnTo>
                    <a:pt x="887" y="701"/>
                  </a:lnTo>
                  <a:lnTo>
                    <a:pt x="911" y="695"/>
                  </a:lnTo>
                  <a:lnTo>
                    <a:pt x="929" y="689"/>
                  </a:lnTo>
                  <a:lnTo>
                    <a:pt x="947" y="689"/>
                  </a:lnTo>
                  <a:lnTo>
                    <a:pt x="971" y="683"/>
                  </a:lnTo>
                  <a:lnTo>
                    <a:pt x="989" y="677"/>
                  </a:lnTo>
                  <a:lnTo>
                    <a:pt x="1007" y="677"/>
                  </a:lnTo>
                  <a:lnTo>
                    <a:pt x="1025" y="671"/>
                  </a:lnTo>
                  <a:lnTo>
                    <a:pt x="1043" y="665"/>
                  </a:lnTo>
                  <a:lnTo>
                    <a:pt x="1061" y="659"/>
                  </a:lnTo>
                  <a:lnTo>
                    <a:pt x="1079" y="659"/>
                  </a:lnTo>
                  <a:lnTo>
                    <a:pt x="1097" y="653"/>
                  </a:lnTo>
                  <a:lnTo>
                    <a:pt x="1115" y="647"/>
                  </a:lnTo>
                  <a:lnTo>
                    <a:pt x="1132" y="641"/>
                  </a:lnTo>
                  <a:lnTo>
                    <a:pt x="1144" y="641"/>
                  </a:lnTo>
                  <a:lnTo>
                    <a:pt x="1162" y="635"/>
                  </a:lnTo>
                  <a:lnTo>
                    <a:pt x="1180" y="629"/>
                  </a:lnTo>
                  <a:lnTo>
                    <a:pt x="1192" y="623"/>
                  </a:lnTo>
                  <a:lnTo>
                    <a:pt x="1210" y="617"/>
                  </a:lnTo>
                  <a:lnTo>
                    <a:pt x="1222" y="611"/>
                  </a:lnTo>
                  <a:lnTo>
                    <a:pt x="1240" y="611"/>
                  </a:lnTo>
                  <a:lnTo>
                    <a:pt x="1252" y="605"/>
                  </a:lnTo>
                  <a:lnTo>
                    <a:pt x="1264" y="599"/>
                  </a:lnTo>
                  <a:lnTo>
                    <a:pt x="1282" y="593"/>
                  </a:lnTo>
                  <a:lnTo>
                    <a:pt x="1294" y="587"/>
                  </a:lnTo>
                  <a:lnTo>
                    <a:pt x="1306" y="581"/>
                  </a:lnTo>
                  <a:lnTo>
                    <a:pt x="1318" y="575"/>
                  </a:lnTo>
                  <a:lnTo>
                    <a:pt x="1330" y="569"/>
                  </a:lnTo>
                  <a:lnTo>
                    <a:pt x="1342" y="563"/>
                  </a:lnTo>
                  <a:lnTo>
                    <a:pt x="1354" y="557"/>
                  </a:lnTo>
                  <a:lnTo>
                    <a:pt x="1360" y="551"/>
                  </a:lnTo>
                  <a:lnTo>
                    <a:pt x="1372" y="545"/>
                  </a:lnTo>
                  <a:lnTo>
                    <a:pt x="1384" y="539"/>
                  </a:lnTo>
                  <a:lnTo>
                    <a:pt x="1390" y="533"/>
                  </a:lnTo>
                  <a:lnTo>
                    <a:pt x="1402" y="527"/>
                  </a:lnTo>
                  <a:lnTo>
                    <a:pt x="1408" y="521"/>
                  </a:lnTo>
                  <a:lnTo>
                    <a:pt x="1420" y="515"/>
                  </a:lnTo>
                  <a:lnTo>
                    <a:pt x="1426" y="509"/>
                  </a:lnTo>
                  <a:lnTo>
                    <a:pt x="1432" y="503"/>
                  </a:lnTo>
                  <a:lnTo>
                    <a:pt x="1444" y="497"/>
                  </a:lnTo>
                  <a:lnTo>
                    <a:pt x="1450" y="491"/>
                  </a:lnTo>
                  <a:lnTo>
                    <a:pt x="1456" y="485"/>
                  </a:lnTo>
                  <a:lnTo>
                    <a:pt x="1462" y="479"/>
                  </a:lnTo>
                  <a:lnTo>
                    <a:pt x="1468" y="473"/>
                  </a:lnTo>
                  <a:lnTo>
                    <a:pt x="1468" y="467"/>
                  </a:lnTo>
                  <a:lnTo>
                    <a:pt x="1474" y="461"/>
                  </a:lnTo>
                  <a:lnTo>
                    <a:pt x="1480" y="455"/>
                  </a:lnTo>
                  <a:lnTo>
                    <a:pt x="1480" y="449"/>
                  </a:lnTo>
                  <a:lnTo>
                    <a:pt x="1486" y="443"/>
                  </a:lnTo>
                  <a:lnTo>
                    <a:pt x="1486" y="437"/>
                  </a:lnTo>
                  <a:lnTo>
                    <a:pt x="1492" y="431"/>
                  </a:lnTo>
                  <a:lnTo>
                    <a:pt x="1492" y="425"/>
                  </a:lnTo>
                  <a:lnTo>
                    <a:pt x="1492" y="413"/>
                  </a:lnTo>
                  <a:lnTo>
                    <a:pt x="1498" y="407"/>
                  </a:lnTo>
                  <a:lnTo>
                    <a:pt x="1498" y="401"/>
                  </a:lnTo>
                  <a:lnTo>
                    <a:pt x="1498" y="395"/>
                  </a:lnTo>
                  <a:lnTo>
                    <a:pt x="1498" y="0"/>
                  </a:lnTo>
                  <a:lnTo>
                    <a:pt x="1498" y="0"/>
                  </a:lnTo>
                  <a:close/>
                </a:path>
              </a:pathLst>
            </a:custGeom>
            <a:solidFill>
              <a:srgbClr val="004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2360" y="3062160"/>
              <a:ext cx="1231200" cy="883440"/>
            </a:xfrm>
            <a:custGeom>
              <a:avLst/>
              <a:gdLst/>
              <a:ahLst/>
              <a:rect l="l" t="t" r="r" b="b"/>
              <a:pathLst>
                <a:path w="1498" h="736">
                  <a:moveTo>
                    <a:pt x="72" y="0"/>
                  </a:moveTo>
                  <a:lnTo>
                    <a:pt x="96" y="0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74" y="0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46" y="0"/>
                  </a:lnTo>
                  <a:lnTo>
                    <a:pt x="270" y="0"/>
                  </a:lnTo>
                  <a:lnTo>
                    <a:pt x="294" y="6"/>
                  </a:lnTo>
                  <a:lnTo>
                    <a:pt x="318" y="6"/>
                  </a:lnTo>
                  <a:lnTo>
                    <a:pt x="348" y="6"/>
                  </a:lnTo>
                  <a:lnTo>
                    <a:pt x="372" y="6"/>
                  </a:lnTo>
                  <a:lnTo>
                    <a:pt x="396" y="6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8" y="12"/>
                  </a:lnTo>
                  <a:lnTo>
                    <a:pt x="491" y="12"/>
                  </a:lnTo>
                  <a:lnTo>
                    <a:pt x="515" y="18"/>
                  </a:lnTo>
                  <a:lnTo>
                    <a:pt x="539" y="18"/>
                  </a:lnTo>
                  <a:lnTo>
                    <a:pt x="557" y="18"/>
                  </a:lnTo>
                  <a:lnTo>
                    <a:pt x="581" y="24"/>
                  </a:lnTo>
                  <a:lnTo>
                    <a:pt x="605" y="24"/>
                  </a:lnTo>
                  <a:lnTo>
                    <a:pt x="629" y="30"/>
                  </a:lnTo>
                  <a:lnTo>
                    <a:pt x="653" y="30"/>
                  </a:lnTo>
                  <a:lnTo>
                    <a:pt x="677" y="36"/>
                  </a:lnTo>
                  <a:lnTo>
                    <a:pt x="695" y="36"/>
                  </a:lnTo>
                  <a:lnTo>
                    <a:pt x="719" y="36"/>
                  </a:lnTo>
                  <a:lnTo>
                    <a:pt x="743" y="42"/>
                  </a:lnTo>
                  <a:lnTo>
                    <a:pt x="761" y="42"/>
                  </a:lnTo>
                  <a:lnTo>
                    <a:pt x="785" y="48"/>
                  </a:lnTo>
                  <a:lnTo>
                    <a:pt x="809" y="54"/>
                  </a:lnTo>
                  <a:lnTo>
                    <a:pt x="827" y="54"/>
                  </a:lnTo>
                  <a:lnTo>
                    <a:pt x="851" y="60"/>
                  </a:lnTo>
                  <a:lnTo>
                    <a:pt x="869" y="60"/>
                  </a:lnTo>
                  <a:lnTo>
                    <a:pt x="887" y="66"/>
                  </a:lnTo>
                  <a:lnTo>
                    <a:pt x="911" y="66"/>
                  </a:lnTo>
                  <a:lnTo>
                    <a:pt x="929" y="72"/>
                  </a:lnTo>
                  <a:lnTo>
                    <a:pt x="947" y="78"/>
                  </a:lnTo>
                  <a:lnTo>
                    <a:pt x="971" y="78"/>
                  </a:lnTo>
                  <a:lnTo>
                    <a:pt x="989" y="84"/>
                  </a:lnTo>
                  <a:lnTo>
                    <a:pt x="1007" y="90"/>
                  </a:lnTo>
                  <a:lnTo>
                    <a:pt x="1025" y="96"/>
                  </a:lnTo>
                  <a:lnTo>
                    <a:pt x="1043" y="96"/>
                  </a:lnTo>
                  <a:lnTo>
                    <a:pt x="1061" y="102"/>
                  </a:lnTo>
                  <a:lnTo>
                    <a:pt x="1079" y="108"/>
                  </a:lnTo>
                  <a:lnTo>
                    <a:pt x="1097" y="114"/>
                  </a:lnTo>
                  <a:lnTo>
                    <a:pt x="1115" y="114"/>
                  </a:lnTo>
                  <a:lnTo>
                    <a:pt x="1132" y="120"/>
                  </a:lnTo>
                  <a:lnTo>
                    <a:pt x="1144" y="126"/>
                  </a:lnTo>
                  <a:lnTo>
                    <a:pt x="1162" y="132"/>
                  </a:lnTo>
                  <a:lnTo>
                    <a:pt x="1180" y="138"/>
                  </a:lnTo>
                  <a:lnTo>
                    <a:pt x="1192" y="138"/>
                  </a:lnTo>
                  <a:lnTo>
                    <a:pt x="1210" y="144"/>
                  </a:lnTo>
                  <a:lnTo>
                    <a:pt x="1222" y="150"/>
                  </a:lnTo>
                  <a:lnTo>
                    <a:pt x="1240" y="156"/>
                  </a:lnTo>
                  <a:lnTo>
                    <a:pt x="1252" y="162"/>
                  </a:lnTo>
                  <a:lnTo>
                    <a:pt x="1264" y="168"/>
                  </a:lnTo>
                  <a:lnTo>
                    <a:pt x="1282" y="174"/>
                  </a:lnTo>
                  <a:lnTo>
                    <a:pt x="1294" y="180"/>
                  </a:lnTo>
                  <a:lnTo>
                    <a:pt x="1306" y="180"/>
                  </a:lnTo>
                  <a:lnTo>
                    <a:pt x="1318" y="186"/>
                  </a:lnTo>
                  <a:lnTo>
                    <a:pt x="1330" y="192"/>
                  </a:lnTo>
                  <a:lnTo>
                    <a:pt x="1342" y="198"/>
                  </a:lnTo>
                  <a:lnTo>
                    <a:pt x="1354" y="204"/>
                  </a:lnTo>
                  <a:lnTo>
                    <a:pt x="1360" y="210"/>
                  </a:lnTo>
                  <a:lnTo>
                    <a:pt x="1372" y="216"/>
                  </a:lnTo>
                  <a:lnTo>
                    <a:pt x="1384" y="222"/>
                  </a:lnTo>
                  <a:lnTo>
                    <a:pt x="1390" y="228"/>
                  </a:lnTo>
                  <a:lnTo>
                    <a:pt x="1402" y="234"/>
                  </a:lnTo>
                  <a:lnTo>
                    <a:pt x="1408" y="240"/>
                  </a:lnTo>
                  <a:lnTo>
                    <a:pt x="1420" y="246"/>
                  </a:lnTo>
                  <a:lnTo>
                    <a:pt x="1426" y="252"/>
                  </a:lnTo>
                  <a:lnTo>
                    <a:pt x="1432" y="258"/>
                  </a:lnTo>
                  <a:lnTo>
                    <a:pt x="1444" y="264"/>
                  </a:lnTo>
                  <a:lnTo>
                    <a:pt x="1450" y="270"/>
                  </a:lnTo>
                  <a:lnTo>
                    <a:pt x="1456" y="275"/>
                  </a:lnTo>
                  <a:lnTo>
                    <a:pt x="1462" y="281"/>
                  </a:lnTo>
                  <a:lnTo>
                    <a:pt x="1468" y="287"/>
                  </a:lnTo>
                  <a:lnTo>
                    <a:pt x="1468" y="299"/>
                  </a:lnTo>
                  <a:lnTo>
                    <a:pt x="1474" y="305"/>
                  </a:lnTo>
                  <a:lnTo>
                    <a:pt x="1480" y="311"/>
                  </a:lnTo>
                  <a:lnTo>
                    <a:pt x="1480" y="317"/>
                  </a:lnTo>
                  <a:lnTo>
                    <a:pt x="1486" y="323"/>
                  </a:lnTo>
                  <a:lnTo>
                    <a:pt x="1486" y="329"/>
                  </a:lnTo>
                  <a:lnTo>
                    <a:pt x="1492" y="335"/>
                  </a:lnTo>
                  <a:lnTo>
                    <a:pt x="1492" y="341"/>
                  </a:lnTo>
                  <a:lnTo>
                    <a:pt x="1492" y="347"/>
                  </a:lnTo>
                  <a:lnTo>
                    <a:pt x="1498" y="353"/>
                  </a:lnTo>
                  <a:lnTo>
                    <a:pt x="1498" y="359"/>
                  </a:lnTo>
                  <a:lnTo>
                    <a:pt x="1498" y="365"/>
                  </a:lnTo>
                  <a:lnTo>
                    <a:pt x="1498" y="371"/>
                  </a:lnTo>
                  <a:lnTo>
                    <a:pt x="1498" y="377"/>
                  </a:lnTo>
                  <a:lnTo>
                    <a:pt x="1492" y="383"/>
                  </a:lnTo>
                  <a:lnTo>
                    <a:pt x="1492" y="395"/>
                  </a:lnTo>
                  <a:lnTo>
                    <a:pt x="1492" y="401"/>
                  </a:lnTo>
                  <a:lnTo>
                    <a:pt x="1486" y="407"/>
                  </a:lnTo>
                  <a:lnTo>
                    <a:pt x="1486" y="413"/>
                  </a:lnTo>
                  <a:lnTo>
                    <a:pt x="1480" y="419"/>
                  </a:lnTo>
                  <a:lnTo>
                    <a:pt x="1480" y="425"/>
                  </a:lnTo>
                  <a:lnTo>
                    <a:pt x="1474" y="431"/>
                  </a:lnTo>
                  <a:lnTo>
                    <a:pt x="1468" y="437"/>
                  </a:lnTo>
                  <a:lnTo>
                    <a:pt x="1468" y="443"/>
                  </a:lnTo>
                  <a:lnTo>
                    <a:pt x="1462" y="449"/>
                  </a:lnTo>
                  <a:lnTo>
                    <a:pt x="1456" y="455"/>
                  </a:lnTo>
                  <a:lnTo>
                    <a:pt x="1450" y="461"/>
                  </a:lnTo>
                  <a:lnTo>
                    <a:pt x="1444" y="467"/>
                  </a:lnTo>
                  <a:lnTo>
                    <a:pt x="1432" y="473"/>
                  </a:lnTo>
                  <a:lnTo>
                    <a:pt x="1426" y="479"/>
                  </a:lnTo>
                  <a:lnTo>
                    <a:pt x="1420" y="485"/>
                  </a:lnTo>
                  <a:lnTo>
                    <a:pt x="1408" y="491"/>
                  </a:lnTo>
                  <a:lnTo>
                    <a:pt x="1402" y="497"/>
                  </a:lnTo>
                  <a:lnTo>
                    <a:pt x="1390" y="503"/>
                  </a:lnTo>
                  <a:lnTo>
                    <a:pt x="1384" y="509"/>
                  </a:lnTo>
                  <a:lnTo>
                    <a:pt x="1372" y="515"/>
                  </a:lnTo>
                  <a:lnTo>
                    <a:pt x="1360" y="521"/>
                  </a:lnTo>
                  <a:lnTo>
                    <a:pt x="1354" y="527"/>
                  </a:lnTo>
                  <a:lnTo>
                    <a:pt x="1342" y="533"/>
                  </a:lnTo>
                  <a:lnTo>
                    <a:pt x="1330" y="539"/>
                  </a:lnTo>
                  <a:lnTo>
                    <a:pt x="1318" y="545"/>
                  </a:lnTo>
                  <a:lnTo>
                    <a:pt x="1306" y="551"/>
                  </a:lnTo>
                  <a:lnTo>
                    <a:pt x="1294" y="557"/>
                  </a:lnTo>
                  <a:lnTo>
                    <a:pt x="1282" y="563"/>
                  </a:lnTo>
                  <a:lnTo>
                    <a:pt x="1264" y="569"/>
                  </a:lnTo>
                  <a:lnTo>
                    <a:pt x="1252" y="575"/>
                  </a:lnTo>
                  <a:lnTo>
                    <a:pt x="1240" y="581"/>
                  </a:lnTo>
                  <a:lnTo>
                    <a:pt x="1222" y="581"/>
                  </a:lnTo>
                  <a:lnTo>
                    <a:pt x="1210" y="587"/>
                  </a:lnTo>
                  <a:lnTo>
                    <a:pt x="1192" y="593"/>
                  </a:lnTo>
                  <a:lnTo>
                    <a:pt x="1180" y="599"/>
                  </a:lnTo>
                  <a:lnTo>
                    <a:pt x="1162" y="605"/>
                  </a:lnTo>
                  <a:lnTo>
                    <a:pt x="1144" y="611"/>
                  </a:lnTo>
                  <a:lnTo>
                    <a:pt x="1132" y="611"/>
                  </a:lnTo>
                  <a:lnTo>
                    <a:pt x="1115" y="617"/>
                  </a:lnTo>
                  <a:lnTo>
                    <a:pt x="1097" y="623"/>
                  </a:lnTo>
                  <a:lnTo>
                    <a:pt x="1079" y="629"/>
                  </a:lnTo>
                  <a:lnTo>
                    <a:pt x="1061" y="629"/>
                  </a:lnTo>
                  <a:lnTo>
                    <a:pt x="1043" y="635"/>
                  </a:lnTo>
                  <a:lnTo>
                    <a:pt x="1025" y="641"/>
                  </a:lnTo>
                  <a:lnTo>
                    <a:pt x="1007" y="647"/>
                  </a:lnTo>
                  <a:lnTo>
                    <a:pt x="989" y="647"/>
                  </a:lnTo>
                  <a:lnTo>
                    <a:pt x="971" y="653"/>
                  </a:lnTo>
                  <a:lnTo>
                    <a:pt x="947" y="659"/>
                  </a:lnTo>
                  <a:lnTo>
                    <a:pt x="929" y="659"/>
                  </a:lnTo>
                  <a:lnTo>
                    <a:pt x="911" y="665"/>
                  </a:lnTo>
                  <a:lnTo>
                    <a:pt x="887" y="671"/>
                  </a:lnTo>
                  <a:lnTo>
                    <a:pt x="869" y="671"/>
                  </a:lnTo>
                  <a:lnTo>
                    <a:pt x="851" y="677"/>
                  </a:lnTo>
                  <a:lnTo>
                    <a:pt x="827" y="677"/>
                  </a:lnTo>
                  <a:lnTo>
                    <a:pt x="809" y="683"/>
                  </a:lnTo>
                  <a:lnTo>
                    <a:pt x="785" y="689"/>
                  </a:lnTo>
                  <a:lnTo>
                    <a:pt x="761" y="689"/>
                  </a:lnTo>
                  <a:lnTo>
                    <a:pt x="743" y="695"/>
                  </a:lnTo>
                  <a:lnTo>
                    <a:pt x="719" y="695"/>
                  </a:lnTo>
                  <a:lnTo>
                    <a:pt x="695" y="700"/>
                  </a:lnTo>
                  <a:lnTo>
                    <a:pt x="677" y="700"/>
                  </a:lnTo>
                  <a:lnTo>
                    <a:pt x="653" y="700"/>
                  </a:lnTo>
                  <a:lnTo>
                    <a:pt x="629" y="706"/>
                  </a:lnTo>
                  <a:lnTo>
                    <a:pt x="605" y="706"/>
                  </a:lnTo>
                  <a:lnTo>
                    <a:pt x="581" y="712"/>
                  </a:lnTo>
                  <a:lnTo>
                    <a:pt x="557" y="712"/>
                  </a:lnTo>
                  <a:lnTo>
                    <a:pt x="539" y="712"/>
                  </a:lnTo>
                  <a:lnTo>
                    <a:pt x="515" y="718"/>
                  </a:lnTo>
                  <a:lnTo>
                    <a:pt x="491" y="718"/>
                  </a:lnTo>
                  <a:lnTo>
                    <a:pt x="468" y="718"/>
                  </a:lnTo>
                  <a:lnTo>
                    <a:pt x="444" y="724"/>
                  </a:lnTo>
                  <a:lnTo>
                    <a:pt x="420" y="724"/>
                  </a:lnTo>
                  <a:lnTo>
                    <a:pt x="396" y="724"/>
                  </a:lnTo>
                  <a:lnTo>
                    <a:pt x="372" y="724"/>
                  </a:lnTo>
                  <a:lnTo>
                    <a:pt x="348" y="730"/>
                  </a:lnTo>
                  <a:lnTo>
                    <a:pt x="318" y="730"/>
                  </a:lnTo>
                  <a:lnTo>
                    <a:pt x="294" y="730"/>
                  </a:lnTo>
                  <a:lnTo>
                    <a:pt x="270" y="730"/>
                  </a:lnTo>
                  <a:lnTo>
                    <a:pt x="246" y="730"/>
                  </a:lnTo>
                  <a:lnTo>
                    <a:pt x="222" y="730"/>
                  </a:lnTo>
                  <a:lnTo>
                    <a:pt x="198" y="736"/>
                  </a:lnTo>
                  <a:lnTo>
                    <a:pt x="174" y="736"/>
                  </a:lnTo>
                  <a:lnTo>
                    <a:pt x="150" y="736"/>
                  </a:lnTo>
                  <a:lnTo>
                    <a:pt x="126" y="736"/>
                  </a:lnTo>
                  <a:lnTo>
                    <a:pt x="96" y="736"/>
                  </a:lnTo>
                  <a:lnTo>
                    <a:pt x="72" y="736"/>
                  </a:lnTo>
                  <a:lnTo>
                    <a:pt x="48" y="736"/>
                  </a:lnTo>
                  <a:lnTo>
                    <a:pt x="24" y="736"/>
                  </a:lnTo>
                  <a:lnTo>
                    <a:pt x="0" y="736"/>
                  </a:lnTo>
                  <a:lnTo>
                    <a:pt x="72" y="36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56880" y="4154400"/>
              <a:ext cx="720" cy="100440"/>
            </a:xfrm>
            <a:custGeom>
              <a:avLst/>
              <a:gdLst/>
              <a:ahLst/>
              <a:rect l="l" t="t" r="r" b="b"/>
              <a:pathLst>
                <a:path w="0" h="84">
                  <a:moveTo>
                    <a:pt x="0" y="84"/>
                  </a:move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53560" y="3981600"/>
              <a:ext cx="103320" cy="172800"/>
            </a:xfrm>
            <a:custGeom>
              <a:avLst/>
              <a:gdLst/>
              <a:ahLst/>
              <a:rect l="l" t="t" r="r" b="b"/>
              <a:pathLst>
                <a:path w="126" h="144">
                  <a:moveTo>
                    <a:pt x="126" y="144"/>
                  </a:moveTo>
                  <a:lnTo>
                    <a:pt x="0" y="0"/>
                  </a:lnTo>
                  <a:lnTo>
                    <a:pt x="126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4360" y="2349360"/>
            <a:ext cx="533412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co a poco sustituido por 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social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027240"/>
            <a:ext cx="6553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Nuestro entorno tiene dificultad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preciar a la minería como algo benefici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503360"/>
            <a:ext cx="6934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os mineros tenemos dificultad 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cibir adecuadamente nuestro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smitir los beneficios que gener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49568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roblema de percepciones y desencu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2852640"/>
            <a:ext cx="746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ombre de a pi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27813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Constantes marchas y prote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133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La empresa se ve obligada a resolv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or sí sola los problemas sociales no sólo los generados por su actividad s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de años y siglos de desencuentr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entre las poblaciones y las clases gubernamentales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68580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r>
              <a:rPr b="1" lang="es-PE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209680"/>
            <a:ext cx="3124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637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781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70828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997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609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5335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6765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352680"/>
            <a:ext cx="2895840" cy="1905120"/>
          </a:xfrm>
          <a:prstGeom prst="rect">
            <a:avLst/>
          </a:prstGeom>
          <a:solidFill>
            <a:srgbClr val="fce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36960" y="3360600"/>
            <a:ext cx="3087720" cy="189864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7400" y="3581280"/>
          <a:ext cx="5791320" cy="1566720"/>
        </p:xfrm>
        <a:graphic>
          <a:graphicData uri="http://schemas.openxmlformats.org/drawingml/2006/table">
            <a:tbl>
              <a:tblPr/>
              <a:tblGrid>
                <a:gridCol w="2971800"/>
                <a:gridCol w="2819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9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968120" y="53323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Fuente: MEM, MEF, MTPS, SUN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(*) Estimado SNM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74320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anon Minero gen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205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3500280"/>
            <a:ext cx="20908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as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3573360"/>
            <a:ext cx="15922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res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1981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Centr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Gobierno no cubre espacios de di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114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El Estado NO está donde se juega el pa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político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14479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6573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878" t="10128" r="0" b="0"/>
          <a:stretch/>
        </p:blipFill>
        <p:spPr>
          <a:xfrm>
            <a:off x="1447920" y="3048120"/>
            <a:ext cx="2971800" cy="2008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2057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mpuestos que el Estado ha percib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creciente en los últimos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6668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Evolución del Impuesto a la Renta Min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181480"/>
            <a:ext cx="166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21337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articipación Sectorial del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mpuesto a la R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2724120"/>
            <a:ext cx="3124080" cy="39852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28% del Impuesto a la Renta que efectivamente capta el 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40080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00720" y="3124080"/>
          <a:ext cx="4392360" cy="23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3124080"/>
                    <a:ext cx="439236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52480" y="1295280"/>
            <a:ext cx="6400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e ha ido forjando una nueva escala de valores que peligrosamente nos conducen al caos y la ingoberna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La minería se ha adaptado a la modernidad y al respeto y manejo adecuado de los impactos ambient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l estado ha abandonado su antiguo rol de Estado empresar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stos tres cambios requieren urgentemente una reforma radical del Estado, de la cual mucho se ha hablado y poco se ha h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18288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l haberse creado este Perú Real, la empresa debe resolver los conflictos del Estado con entidades u organizaciones que se arrogan la representatividad de los supuestos afectados o interesad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962520"/>
            <a:ext cx="556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74733"/>
                </a:solidFill>
                <a:latin typeface="Verdana"/>
              </a:rPr>
              <a:t>Ausencia del Estado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1752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que estos vacíos sean cubiertos por organizaciones de dudoso origen y desconocid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una responsabilidad del Estad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lo puede permit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198900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dos países totalmente disti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28464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14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328464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924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que nos cuesta entender y con el que debemos interactuar prácticamente sol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62864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80000" y="2492280"/>
            <a:ext cx="182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2565360"/>
            <a:ext cx="4724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rco normativo y regulatorio claramente defin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misos y lic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gula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41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32000" y="23493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studios de Impacto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1253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29000" y="18288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438280" cy="63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47242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05720" y="281952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33920" y="2971800"/>
            <a:ext cx="25272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12:01Z</dcterms:created>
  <dc:creator>----- -----</dc:creator>
  <dc:description/>
  <dc:language>en-US</dc:language>
  <cp:lastModifiedBy>PCLARCE</cp:lastModifiedBy>
  <dcterms:modified xsi:type="dcterms:W3CDTF">2004-10-27T23:37:48Z</dcterms:modified>
  <cp:revision>60</cp:revision>
  <dc:subject/>
  <dc:title>PowerPoint Presentation</dc:title>
</cp:coreProperties>
</file>